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21009"/>
        <c:axId val="47683392"/>
      </c:barChart>
      <c:catAx>
        <c:axId val="75721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83392"/>
        <c:crosses val="autoZero"/>
        <c:auto val="1"/>
        <c:lblAlgn val="ctr"/>
        <c:lblOffset val="100"/>
        <c:noMultiLvlLbl val="0"/>
      </c:catAx>
      <c:valAx>
        <c:axId val="47683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1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36B-66D3-4E81-AA29-283192E5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09C-D27B-4535-A3BA-3962E35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490-C74F-407A-8FDF-49CC8D35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548-6DB4-4F46-9C62-6F3EDA29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C6B-66DB-408E-BF69-9CD28A9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7FF-FF93-4632-B96B-EDB7108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D06-1D8C-4AC8-B11A-66B8E04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7BD-61C4-4A36-94AC-FD1568C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6E6-7CFC-4BC3-91BB-FAD3EA3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FDA-9CDF-43B4-AD2A-BD18AE5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11C-5B3A-4439-A594-4BAE346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9E1-3326-4238-8D89-DC5133E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2AF9D-1C4E-485D-B006-FDF13AFA1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