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388700"/>
        <c:axId val="1043656"/>
      </c:barChart>
      <c:catAx>
        <c:axId val="15388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3656"/>
        <c:crosses val="autoZero"/>
        <c:auto val="1"/>
        <c:lblAlgn val="ctr"/>
        <c:lblOffset val="100"/>
        <c:noMultiLvlLbl val="0"/>
      </c:catAx>
      <c:valAx>
        <c:axId val="10436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88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E65-0C00-400B-9F5A-E738970F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F7A2-6CD6-4702-B0B2-5393782D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164-CBA0-419A-A85D-CEAA137D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84A7-430E-443E-A277-8BD8C1C3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EFD-0494-440E-BC57-07A05EC4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D31-38C8-43F4-B1D3-1481E771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754-A2DA-4191-AD07-4EBFA9E4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347-50FD-41FD-B3C3-FC5D36DC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BEFC-155C-4385-9983-B84CB673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BC8B-9822-414A-9AC2-94FE7684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F83-6A29-444E-A03C-76F39888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A2C-03DC-4080-9B77-BA3FCA40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3E7B9-3B0C-4636-89A9-5984A8C198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