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75375"/>
        <c:axId val="34432751"/>
      </c:barChart>
      <c:catAx>
        <c:axId val="60775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32751"/>
        <c:crosses val="autoZero"/>
        <c:auto val="1"/>
        <c:lblAlgn val="ctr"/>
        <c:lblOffset val="100"/>
        <c:noMultiLvlLbl val="0"/>
      </c:catAx>
      <c:valAx>
        <c:axId val="34432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5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FCC-A328-4C35-B967-C8260908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58B-20E3-4561-B6AE-727ACE7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055-713B-40AA-8337-FCEF5621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046-EE16-4441-B089-C885075C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CAA-FE2C-41B7-ABFD-C1D21F9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F14-9FB1-49CF-BD2F-742A754C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6CD-AD67-46B3-81C4-69FD3A48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7DC-3330-465F-AF76-15A3D48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87C-BDE3-4883-92B3-0644E01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807-4FE8-485E-A390-E9ADAE2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AFB-2054-4781-919E-2C54454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AC4-0947-43E0-BC57-01089A7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3FA28-0630-458B-B76F-04A4F00D49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